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087-DDC3-4EED-945D-B4EEC689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6AC-FF09-4B20-8CB7-8331559F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3F3-2E6D-4A05-8752-D1903FC9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7CD-241D-4B6E-9863-E862080A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F6D-0262-497E-AD72-7C2BCC0E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7DE-C874-4CA6-AE3B-D822F5F4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EFF-756B-4BEC-99CD-3759F26E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EE3-36B2-4E28-9DA0-8602D130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4BD-5F42-4979-A9E4-46E42613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718-D793-4FA9-B511-4ECA60E4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439-C960-4BEE-90A4-8EADFE61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9FF-5020-4E85-A53A-93035802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61013-409C-47D4-8E67-594FF9A9F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ogadro’s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353600"/>
            <a:ext cx="914400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qual volumes of different gases at the same temperature and pressure have the same number of mo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g)     +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g)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HCl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0 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  </a:t>
            </a:r>
            <a:r>
              <a:rPr b="0" lang="en-US" sz="16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cts wit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0 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for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20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g)     +     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g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0 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0 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20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38240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ress all temperatures in Kelvin:  28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 = 301 K     and     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 = 273 K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pply:  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T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  =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 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x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 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127 x 8.4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x 273   / 1.01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x   3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 95.8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ing the above expression there is no need to change volume in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or even pressure in atm) provided they are in the same un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needs changing though is temperature as this needs to be in Kelv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600200"/>
            <a:ext cx="91440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umber of moles can only be calculated by using the ideal gas equat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when using the ideal gas equation, SI units need to b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=   PV/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 8.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 x 1.27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4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.31 J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mo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 301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4.3 x 1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s of ideal gas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600200"/>
            <a:ext cx="91440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molar mass of a gas: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need to know the conditions it is in and the mass of the sample of the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then calculat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n using n = mass/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culate the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also use this calculation to identify an unknown gas experimentally 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896840"/>
            <a:ext cx="91440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ample of a gas has a volume of 432 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a mass of 1.500g at a pressure of 0.974 atm and a temperature of 28 C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culate the molar mas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= mass RT/p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88.28 g mo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ogadro’s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41768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n other words, if there are 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molecules/moles of 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in 10 cm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of oxygen gas, then there are 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x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olecules/moles of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in 10 cm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of nitrogen gas and there are 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2x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molecules/moles of 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in 20 cm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of carbon dioxide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way of putting this is that the volume of a gas depends on the amount of moles of the ga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rovided the conditions are the same).  Or, if the volum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as is double the volum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n there are twice as many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t s.t.p. (which is 273K and 1.01 x 10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P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me of 1 mole of any g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27 x 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mol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2.7 d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mol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033880" y="3487680"/>
            <a:ext cx="3855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Gas laws: why do all gases have the same molar volum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80648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gas laws describe the behaviour of gases i.e. the relationships between temperature, volume and pressure of a g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V = constant   (Boyle’s Law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/T = constant  (Charles’s Law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/T = const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/n = constant  (Avogadro’s Law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al gas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GB" sz="48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ff6600"/>
                </a:solidFill>
                <a:latin typeface="Calibri"/>
              </a:rPr>
              <a:t>pV = </a:t>
            </a:r>
            <a:r>
              <a:rPr b="0" i="1" lang="en-GB" sz="4800" spc="-1" strike="noStrike">
                <a:solidFill>
                  <a:srgbClr val="ff6600"/>
                </a:solidFill>
                <a:latin typeface="Calibri"/>
              </a:rPr>
              <a:t>n</a:t>
            </a:r>
            <a:r>
              <a:rPr b="0" lang="en-GB" sz="4800" spc="-1" strike="noStrike">
                <a:solidFill>
                  <a:srgbClr val="ff6600"/>
                </a:solidFill>
                <a:latin typeface="Calibri"/>
              </a:rPr>
              <a:t>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 =  8.31 J K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-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        ( J = Nm)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ssure must be in Pa                 (Pa = N 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lume should be in 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1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1000 d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and 1 d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1000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r m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emperature should be in 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n you cancel all unit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f ideal gas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861920"/>
            <a:ext cx="91440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lculate the p, V or T values of a gas provided the 3 other properties are know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volume will be occupied by 0.216 g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t 21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 and at a pressure of 1.34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5998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number of moles of the gas: 0.216 g/44.0 g = 4.9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temperature in Kelvin:  2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294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 pV = n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1.34 x 10</a:t>
            </a:r>
            <a:r>
              <a:rPr b="0" lang="en-US" sz="3200" spc="-1" strike="noStrike" baseline="30000">
                <a:solidFill>
                  <a:srgbClr val="ff66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  x   V  =  4.91 x 10</a:t>
            </a:r>
            <a:r>
              <a:rPr b="0" lang="en-US" sz="3200" spc="-1" strike="noStrike" baseline="30000">
                <a:solidFill>
                  <a:srgbClr val="ff6600"/>
                </a:solidFill>
                <a:latin typeface="Calibri"/>
              </a:rPr>
              <a:t>-3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    x    8.31   x   294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                        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V =  8.95 x 10</a:t>
            </a:r>
            <a:r>
              <a:rPr b="0" lang="en-US" sz="3200" spc="-1" strike="noStrike" baseline="30000">
                <a:solidFill>
                  <a:srgbClr val="ff6600"/>
                </a:solidFill>
                <a:latin typeface="Calibri"/>
              </a:rPr>
              <a:t>-5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m</a:t>
            </a:r>
            <a:r>
              <a:rPr b="0" lang="en-US" sz="3200" spc="-1" strike="noStrike" baseline="30000">
                <a:solidFill>
                  <a:srgbClr val="ff66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(= 89.5 cm</a:t>
            </a:r>
            <a:r>
              <a:rPr b="0" lang="en-US" sz="3200" spc="-1" strike="noStrike" baseline="30000">
                <a:solidFill>
                  <a:srgbClr val="ff66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ancel uni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f ideal gas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new value of either p, V or T, when only one of the properties of a sample of a gas has been chang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number of moles and gas constant remain the same, the ideal equation can be simplifie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=   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gas occupies 127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t a pressure of 8.4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 and at 28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volume will the same amount of gas occupy at 1.01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a and 0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moles of gas are pres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03:03:43Z</dcterms:created>
  <dc:creator>Nico Van De Casteele</dc:creator>
  <dc:description/>
  <dc:language>en-US</dc:language>
  <cp:lastModifiedBy>Nico Van De Casteele</cp:lastModifiedBy>
  <dcterms:modified xsi:type="dcterms:W3CDTF">2014-10-15T04:46:21Z</dcterms:modified>
  <cp:revision>18</cp:revision>
  <dc:subject/>
  <dc:title>PowerPoint Presentation</dc:title>
</cp:coreProperties>
</file>